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A1D-759A-4030-A543-7A348A82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269-7A54-4073-A903-26A70972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38A-BEB9-46F0-9E95-396183D1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89E-476E-41ED-BED3-89372482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0FC-847C-4D43-BB8D-E003DD12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645-C3EE-46D8-8C52-FA4DDD58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FD0-9B29-48A3-8BC2-4CE0B200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4EB-A2F6-402E-B530-8F1279A8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6C5-6FE6-45AD-B87B-9AB943EE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8F4-0F86-4125-BC23-641D22C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7D9-5A21-476B-B19D-8D1761DF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BD2-EAEF-4AA2-9FB5-EEEB6F83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A99-A7FF-4984-ACDE-A4868557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74600"/>
            <a:ext cx="20318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 كل شيء تعطى كل شيء واحمل الصلي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تجد الراحة والهدو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لن يخ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ظن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5720" y="174600"/>
            <a:ext cx="203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ما أقمتَ أقيمُ أ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ن يغ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جهي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إني اخترتك لي عو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على يدعوكَ تعال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361800"/>
            <a:ext cx="20080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نظرتُ في عينيكَ وأحببتكَ عرفتُ ما في قلبكَ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أرضكَ العطشىَ للحبِ والسلام تصرخُ إلي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4:26:18Z</dcterms:created>
  <dc:creator>USER</dc:creator>
  <dc:description/>
  <dc:language>en-US</dc:language>
  <cp:lastModifiedBy>USER</cp:lastModifiedBy>
  <dcterms:modified xsi:type="dcterms:W3CDTF">2003-01-21T11:10:49Z</dcterms:modified>
  <cp:revision>2</cp:revision>
  <dc:subject/>
  <dc:title>PowerPoint Presentation</dc:title>
</cp:coreProperties>
</file>